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F3F8-AB4B-4B95-8670-4090BCEF3B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B8EE-56EC-45E4-8447-627D6338CA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 to be with expedition planning and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only for info – not to be taken as a league ta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know there are pockets of very active schools, we need to be aware of these so that those explorers are awarded CS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010F-F878-4684-A06D-8E5D009DB8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go to Gilwell, they just fire it back to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7BBD-9E7F-4D5D-BB27-D72CEABB77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er these to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questions for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to hand out with specif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volved in CS a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mbership and Nights away are cumu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5C0E-0442-4BA9-835C-7B4F43683D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ll /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s and downloads, always ask?  Don’t let people do a section without checking it is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ries, tracking logs, photo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the same activity more than once or for more than one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L modules – must be mentioned in  assessor’s report or by Leader at sign-off on bottom of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ite bro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bout making sure that the programme the young person wants to undertake, fulfills expectations, can fill the time required, is not curriculum 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can vouch for the commitment, progression and learning that the young person has h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5F5E-FBC3-468C-B445-F70882B7DA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in online entry – into leaders management, can only be released to participant when their planners are complete and appr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95DA-3064-4B10-959B-70960DA42B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03020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198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1136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5604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1136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5604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9343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98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heshirescouts.org.uk/awards.aspx" TargetMode="External"/><Relationship Id="rId2" Type="http://schemas.openxmlformats.org/officeDocument/2006/relationships/hyperlink" Target="http://www.dofe.org/" TargetMode="External"/><Relationship Id="rId3" Type="http://schemas.openxmlformats.org/officeDocument/2006/relationships/hyperlink" Target="http://members.scouts.org.uk/supportresource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440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Workshop 4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Awards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vision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formation and Recor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ties and dates – explorers or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ght’s away (canvas or indo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lanced programme/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ofE, OSM, record cards – Who doe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1413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Key differ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6360" y="2133720"/>
            <a:ext cx="693432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S expeditions – can be supervised remo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DofE expeditions – CA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S expeditions – fulfil scouting regulations etc, need to be assessed as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DofE expeditions – can only be assessed by an accredited assessor to appropriat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QSA expeditions can be planned and approved lo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DofE Gold expeditions have to be approved by Wild Country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S expeditions can be run from within a unit/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DofE expeditions require assessor to be remote from group and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Facts and Fig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47640" y="2420640"/>
            <a:ext cx="69343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heshir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693 participants in 45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derl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st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 &amp; 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sey 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rr 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rr 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360"/>
            <a:ext cx="693432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upport and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66680" y="2437920"/>
            <a:ext cx="760896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ct DofE Advisor/County DofE Ad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shire website -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heshirescouts.org.uk/awards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fE website –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of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ut website – DofE is under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S awards come under Badges and 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embers.scouts.org.uk/support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hief Scout awards and D of 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547640" y="2708280"/>
            <a:ext cx="62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ces, Dilemmas and Dropou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the ass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we responsible f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835280" y="1916280"/>
          <a:ext cx="6095880" cy="42591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ef Scout aw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of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d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 of Scout Assoc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hts Aw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activities fro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E 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51" descr="MC900434665[1]"/>
          <p:cNvPicPr/>
          <p:nvPr/>
        </p:nvPicPr>
        <p:blipFill>
          <a:blip r:embed="rId1"/>
          <a:stretch/>
        </p:blipFill>
        <p:spPr>
          <a:xfrm>
            <a:off x="4572000" y="2470320"/>
            <a:ext cx="431640" cy="39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2" descr="MC900434665[1]"/>
          <p:cNvPicPr/>
          <p:nvPr/>
        </p:nvPicPr>
        <p:blipFill>
          <a:blip r:embed="rId2"/>
          <a:stretch/>
        </p:blipFill>
        <p:spPr>
          <a:xfrm>
            <a:off x="4572000" y="2997360"/>
            <a:ext cx="431640" cy="39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3" descr="MC900434665[1]"/>
          <p:cNvPicPr/>
          <p:nvPr/>
        </p:nvPicPr>
        <p:blipFill>
          <a:blip r:embed="rId3"/>
          <a:stretch/>
        </p:blipFill>
        <p:spPr>
          <a:xfrm>
            <a:off x="4572000" y="350028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4" descr="MC900434665[1]"/>
          <p:cNvPicPr/>
          <p:nvPr/>
        </p:nvPicPr>
        <p:blipFill>
          <a:blip r:embed="rId4"/>
          <a:stretch/>
        </p:blipFill>
        <p:spPr>
          <a:xfrm>
            <a:off x="4572000" y="4005360"/>
            <a:ext cx="431640" cy="39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5" descr="MC900434665[1]"/>
          <p:cNvPicPr/>
          <p:nvPr/>
        </p:nvPicPr>
        <p:blipFill>
          <a:blip r:embed="rId5"/>
          <a:stretch/>
        </p:blipFill>
        <p:spPr>
          <a:xfrm>
            <a:off x="4572000" y="4508640"/>
            <a:ext cx="431640" cy="39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6" descr="MC900434665[1]"/>
          <p:cNvPicPr/>
          <p:nvPr/>
        </p:nvPicPr>
        <p:blipFill>
          <a:blip r:embed="rId6"/>
          <a:stretch/>
        </p:blipFill>
        <p:spPr>
          <a:xfrm>
            <a:off x="4572000" y="508464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MC900434665[1]"/>
          <p:cNvPicPr/>
          <p:nvPr/>
        </p:nvPicPr>
        <p:blipFill>
          <a:blip r:embed="rId7"/>
          <a:stretch/>
        </p:blipFill>
        <p:spPr>
          <a:xfrm>
            <a:off x="4572000" y="566100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MC900434665[1]"/>
          <p:cNvPicPr/>
          <p:nvPr/>
        </p:nvPicPr>
        <p:blipFill>
          <a:blip r:embed="rId8"/>
          <a:stretch/>
        </p:blipFill>
        <p:spPr>
          <a:xfrm>
            <a:off x="6659640" y="249228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9" descr="MC900434665[1]"/>
          <p:cNvPicPr/>
          <p:nvPr/>
        </p:nvPicPr>
        <p:blipFill>
          <a:blip r:embed="rId9"/>
          <a:stretch/>
        </p:blipFill>
        <p:spPr>
          <a:xfrm>
            <a:off x="6659640" y="301932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0" descr="MC900434665[1]"/>
          <p:cNvPicPr/>
          <p:nvPr/>
        </p:nvPicPr>
        <p:blipFill>
          <a:blip r:embed="rId10"/>
          <a:stretch/>
        </p:blipFill>
        <p:spPr>
          <a:xfrm>
            <a:off x="6659640" y="352260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1" descr="MC900434665[1]"/>
          <p:cNvPicPr/>
          <p:nvPr/>
        </p:nvPicPr>
        <p:blipFill>
          <a:blip r:embed="rId11"/>
          <a:stretch/>
        </p:blipFill>
        <p:spPr>
          <a:xfrm>
            <a:off x="6659640" y="4027320"/>
            <a:ext cx="431640" cy="397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3"/>
          <p:cNvSpPr/>
          <p:nvPr/>
        </p:nvSpPr>
        <p:spPr>
          <a:xfrm>
            <a:off x="2195640" y="63817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Residential for Gold and Q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Main dif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ut Association membership – 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ghts Away – 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6(4),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12 (8), 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8 (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activities from the IVE list – must be different as you move from Bronze to Silver to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 thing here is record keeping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tional, Values and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26560" y="2437920"/>
            <a:ext cx="7705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 is held under Awards/Queen’s Scout A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ties must be different for each level of the a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ties recorded in many ways – discus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904760"/>
            <a:ext cx="6934320" cy="368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ilemmas!</a:t>
            </a:r>
            <a:br>
              <a:rPr sz="2800"/>
            </a:br>
            <a:br>
              <a:rPr sz="2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hysical or Skill 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at is “enough”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do we show commitment and progression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YL modules and trai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148428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sses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7920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one who checks on progress and agrees the completion of a section of the program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ssessor can be anyone who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ested in helping a young person to achie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s some knowledge of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be available over the time period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MUST be independent and cannot be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 of the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upport for Asses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or cards – to explain their role, timing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-line entry of reports, voice entry, written &amp;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What are our responsibiliti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8920" y="2637000"/>
            <a:ext cx="6934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explo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ve sections promptly – acknowled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-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26:03Z</dcterms:created>
  <dc:creator>Office 2004 Test Drive User</dc:creator>
  <dc:description/>
  <dc:language>en-US</dc:language>
  <cp:lastModifiedBy>Hannah Lapworth</cp:lastModifiedBy>
  <dcterms:modified xsi:type="dcterms:W3CDTF">2013-02-27T21:59:45Z</dcterms:modified>
  <cp:revision>180</cp:revision>
  <dc:subject/>
  <dc:title>Your title here</dc:title>
</cp:coreProperties>
</file>